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35F45-E326-424C-BB14-9FA4EAFDC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AAD98-4F85-4C28-90CF-70A4EE6C9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025D9-80BE-40AC-840A-6DEF1284B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B6D31-46BA-41AA-9221-1CEE164BA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58174-3E36-4572-BC07-7E67C770E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078C9-4A9E-41EF-94EF-FF41A8B51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AAA35-2CAF-433C-8F96-037B13811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995DC-3776-44E7-BA4C-8BC6921BA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31740-5E12-4DDB-B62F-86CD48CCC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314DB-482D-4BE4-B4D2-3E62FB89C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C28D3-1BBD-4C63-9B1C-C3C42E148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D51B9-5167-47D7-B10E-C56A5A8EA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1346C-5D32-4658-82A6-4C8B261944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Emilia Kapcia, Nina luu , and Kevin 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2895480" y="2590920"/>
            <a:ext cx="3648240" cy="99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 Black"/>
              </a:rPr>
              <a:t>Land in Russi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7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9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0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" dur="2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-304920" y="0"/>
            <a:ext cx="9753840" cy="68770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are lots of moutains in Russia and not a lot of land to plant cro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cause the Ural Mountains,it is harder to travel to eastern and western Russ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calno in Kauchattea Penisula that is part of King of fire (Mt. Elbru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ts of land for farming but it is too c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1219320" y="228600"/>
            <a:ext cx="618156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Bad about land in Russi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9" dur="5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10391760" cy="779148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the people adapted to the bad la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they want to travel to Eastern Russia they could take a plane over the Ural Mounta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ssia has one of the deepest freshwater lakes so , if something gets into there drinking water , they could drink out of that la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4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5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5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good things about the land in Russ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ssia has two plains that are very good for plan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ts of rivers that are navig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cause of navigatable rivers tourists can in and out of Russ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7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00"/>
            </a:gs>
            <a:gs pos="100000">
              <a:srgbClr val="400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ssia’s land is good in many way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because it is very good cold, Russians cant use it as much for growing crops most of the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anks to the navigable rivers, the Russians can import and ex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because of the cold weather again, it is hard to shop produc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-1676520" y="-49320"/>
            <a:ext cx="12573000" cy="691524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657600" y="0"/>
            <a:ext cx="136224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Pictur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4T17:44:50Z</dcterms:created>
  <dc:creator> </dc:creator>
  <dc:description/>
  <dc:language>en-US</dc:language>
  <cp:lastModifiedBy> </cp:lastModifiedBy>
  <dcterms:modified xsi:type="dcterms:W3CDTF">2010-12-20T16:47:22Z</dcterms:modified>
  <cp:revision>6</cp:revision>
  <dc:subject/>
  <dc:title>LAND IN RUSSIA</dc:title>
</cp:coreProperties>
</file>